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A8F4-2673-4902-BF69-478FDB56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195-DA7C-4DE8-9392-AC298924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0125-22A5-4681-A081-6D28DDEA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666D-12C1-4CF4-9BDC-333FE179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16B4-936D-4C13-A48A-73E746A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BD4B-FF8C-4F52-AC80-C864DD26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AEC-1ED8-41E9-8409-95885DC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B262-C1B7-4844-943E-90FB8F6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E5E-6E6F-45FE-A6AE-11CC2E0E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3C7-4941-4654-A933-5F8C1AD2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5AF-E19A-4BF5-A91C-4E38E7CD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036-44E6-4267-BAA3-75D48CD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0A4C-1081-47F9-857E-E41D0ECED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an and Sarah Trivi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nimal was present for Sarah and Brian’s first ki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 of capyb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baby rac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leph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nimal was present for Sarah and Brian’s first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es Sarah alone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 Sarah and Brian have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ds of ‘e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irst cousins do Sarah and Brian have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at Sarah and Brian’s wedding s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rved a pumpkin with their initials in it…B +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old the movie rights to their romantic s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needed additional towels for everyone who was in the sh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given a pu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ed at Sarah and Brian’s wedding s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first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2004 Intervarsity talent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Pine Box Orchestra groupies who thought Burr was one cool c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iterally running into each other.  Ou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waiting in line for New Kids on the Block tic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y first me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2004 Intervarsity talent sh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love at first s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and 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e, Gro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love at first s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Yes and 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Sarah’s first birthday as Brian’s girlfriend, what did they use instead of a traditional c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raditional 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tef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i chees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35268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ead of a traditional ca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52960" y="457200"/>
            <a:ext cx="4422600" cy="58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3429000"/>
            <a:ext cx="34290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hili cheese d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their first ki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the lab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front of Brian’s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parlor with the candle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rian’s car with the heated s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was their first ki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In front of Brian’s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6:14:05Z</dcterms:created>
  <dc:creator>Frank</dc:creator>
  <dc:description/>
  <dc:language>en-US</dc:language>
  <cp:lastModifiedBy>Frank</cp:lastModifiedBy>
  <dcterms:modified xsi:type="dcterms:W3CDTF">2007-11-22T07:17:07Z</dcterms:modified>
  <cp:revision>9</cp:revision>
  <dc:subject/>
  <dc:title>Brian and Sarah Trivia!</dc:title>
</cp:coreProperties>
</file>